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0B9-84C8-4919-8643-D70932E3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1BB-A33F-42D7-9957-AE7ADC7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BF2-8EAA-4D5B-8057-A3FE6C2C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B5A-3646-4D4C-95CB-C4119853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062-1074-4B2C-BE8F-61B90B5F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610-FE32-4FC2-AF9B-D2103E1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399-8FA8-4001-A537-D13710F1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3A9-1E89-4918-8D00-65D909B2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5A2-52EB-4EB8-B501-7CE704CD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842-5EA9-4A4C-A6AE-5498DA41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136-4D7A-4529-9E78-37187567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C23-0F51-4F5C-82A5-FB550C4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C7EB-A031-4C2F-828F-616E65A5F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914400"/>
            <a:ext cx="716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ments of Desig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5627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Arial"/>
              </a:rPr>
              <a:t>Fantas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9548"/>
          <a:stretch/>
        </p:blipFill>
        <p:spPr>
          <a:xfrm>
            <a:off x="1066680" y="609480"/>
            <a:ext cx="7086600" cy="441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66880" y="54100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571680"/>
            <a:ext cx="6934320" cy="541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limentary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7720" y="228600"/>
            <a:ext cx="429444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omplimentary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91160" cy="4898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Complimentary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94240" cy="632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Sa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700200"/>
            <a:ext cx="7467480" cy="49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6019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heer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810240" cy="532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38680" y="1523880"/>
            <a:ext cx="2971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Warm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172200" cy="490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7920" y="5562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anger       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7400" y="825480"/>
            <a:ext cx="5638680" cy="469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43200" y="5791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C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4:40:49Z</dcterms:created>
  <dc:creator>Patrick J. Mooney</dc:creator>
  <dc:description/>
  <dc:language>en-US</dc:language>
  <cp:lastModifiedBy>Patrick J. Mooney</cp:lastModifiedBy>
  <dcterms:modified xsi:type="dcterms:W3CDTF">2012-02-21T05:05:35Z</dcterms:modified>
  <cp:revision>7</cp:revision>
  <dc:subject/>
  <dc:title>Slide 1</dc:title>
</cp:coreProperties>
</file>